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EB85-F35E-4F82-A8E1-1C639F404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C600-6D11-4557-A4F6-DFF1F0334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1D8A-83FE-4A54-869F-8F8C8C19C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1CD2-90FD-4041-9FF9-3CE3654E8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53E57-4693-48E7-B777-1C5B23560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284BC-41EF-4E01-9B58-E3DCDE885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2B6EA-4160-40C4-8D8C-51081FC2C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661C3-F9B4-4A8F-99EA-1404FF7C6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BF798-C6C2-4FB5-8082-1576FB1F0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ADF5F-666C-402E-8665-DE7638BB2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645F4-4246-491D-977B-5EE7FC18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4D22-15CC-43E2-973C-282E7E5BF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6BB56-BB69-4075-8874-B7C5EEB8F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C3063-B689-4843-915F-B716295D1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FDE56-4DF7-46F7-86B0-1AB1C0BAB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346F5-BCD7-49BA-8DDB-469D15862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18692-1CBF-4A17-9596-402300B9D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D7F8C-38DA-4F51-9AA9-32E510EF8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50415-92A7-41C5-B479-AEDC1D82C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BA36B-F871-4268-94A3-6118C5539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53444-4663-42AF-87AA-82D668E9C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25C5A-9BE7-4A6D-96E3-7E2E00C86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0D6A-D984-408B-BE26-E4048D1DC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084A5-0796-4723-909C-60A5FB7C2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011E9-0B8C-477D-92AB-F1DCA1E0A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E1FA1-B95A-4167-9A13-DA7B3919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5F42B-7E32-4D97-AE05-66575D50F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FF0C4-49E6-49B5-82E6-DD6239946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D167B-0837-4628-88A2-F9B07199D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D47C1-0C15-4197-8C06-FD9A3A9CB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9AF24-F93D-468E-B2FA-DD094A964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020FD-E3B8-4883-B2B9-C670B60CF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A4167-0B77-41D6-8842-7FDA5D75C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2EBE-C662-4400-966A-BCBE14BEB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68243-1F88-4438-9FF4-2BB393DE8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541D3-2072-4642-AACE-07A8C04B9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82018-4D85-48D0-A8EB-647EC9291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B8AA4-8408-4000-8D0C-280C5182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D15AC-50D9-47A8-AC95-85D28C7D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024E0-286F-44AF-8A3F-5D06D430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23F25-FE90-4FB9-8833-C62704FDE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418D6-0B74-47E7-A724-B7C07FFBD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FB9F5-17C5-495C-848A-006C8835C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19159-A157-4ED9-8914-3ED83EEDF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714D-C0CF-4DAF-BF0E-3F3C58E4B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1DEFAC-0D2C-4EC6-8F26-DC35A6E00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5F3DE-2BA4-47D3-86FC-0D33FD721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E68AFF-1A18-47D7-BF2F-474552958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7EFABA-8B75-44F0-82D8-B5BE1B2EE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E560F0-9A4C-464F-B5E1-72EE44B49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0E06A4-D46D-45B8-8381-6F38EC6F7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DF741A-DFB1-4367-9DA1-2DE8A7387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782E63-CF19-4F4C-9751-4C92319D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9585CB-0328-448F-8FD0-AE0430504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46FB70-2A41-43ED-90CD-4B51F7271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C63B-9F43-4144-BF41-0E7A27CB8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CC8562-13CB-4614-AE69-5E48E30AF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6CF7-D600-4A5C-8D03-EA22D7349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0DE4-1F0B-4A7D-9F22-C2F2416A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C2B9-F9DF-45D9-9E3D-EC16A8D0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BE737-7517-4C93-B460-4C42F03CF4EE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1890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38172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34920" y="65088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JM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6D815-11F7-4DAF-BB08-05DD3BE83189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62894-0013-4C24-B296-3F1087AAD718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3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6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7197A-EBE7-4780-BEFF-20C053CC6B7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1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4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37E24-A44D-4B58-9C23-B0E5BDC289D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EMA 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ARIEDADES TEXTUA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LA COMUNICACIÓ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CAMBIO DE MENSAJ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ANTE SIGN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TRE DOS O MÁS SE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UNA INTENCIÓN DETERMIN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200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2000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2000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2000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FORMAS DE COMUNICACIÓ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79280" y="2060640"/>
            <a:ext cx="87854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COMUNICACIÓN VERB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MEDIANTE SIGNOS LINGÜÍSTIC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RAL : DIÁLOGO, TERTULIA, DEBATE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CRITA: CARTA, DIARIO, NOTA,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MEDIANTE SIGNOS NO LINGÜÍSTIC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VISUALES: DIBUJO, SÍMBOLO,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GESTUALES: ABRAZO, MIRADA,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UDITIVOS: TIMBRE, APLAUSOS,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20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20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20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2000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2000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2000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2000"/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2000"/>
                                        <p:tgtEl>
                                          <p:spTgt spid="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ELEMENTOS DEL PROCESO COMUNICATIV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EMISOR: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TRANSMITE INFORM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RECEPTOR: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A RECIB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 MENSAJE: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ES LA INFORM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CANAL: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EDIO POR EL QUE SE TRANSMIT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NATURAL: SENTID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ARTIFICIAL: TELÉFONO, TELEVISOR,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CÓDIGO: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CONJUNTO DE SIGNOS, CON UNAS REGL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SzPct val="15876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CONOCIDAS  POR EMISOR Y RECEPT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CONTEXTO O SITUACIÓN: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IRCUNSTANCI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SzPct val="15876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ESPACIO, TIEMPO, CULTURA, …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2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20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2000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2000"/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2000"/>
                                        <p:tgtEl>
                                          <p:spTgt spid="2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2000"/>
                                        <p:tgtEl>
                                          <p:spTgt spid="2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2000"/>
                                        <p:tgtEl>
                                          <p:spTgt spid="2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2000"/>
                                        <p:tgtEl>
                                          <p:spTgt spid="2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2000"/>
                                        <p:tgtEl>
                                          <p:spTgt spid="2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2000"/>
                                        <p:tgtEl>
                                          <p:spTgt spid="29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2000"/>
                                        <p:tgtEl>
                                          <p:spTgt spid="29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ELEMENTOS DEL PROCESO COMUNICATIV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EMISOR: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TRANSMITE INFORM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RECEPTOR: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A RECIB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 MENSAJE: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ES LA INFORM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CANAL: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EDIO POR EL QUE SE TRANSMIT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NATURAL: SENTID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ARTIFICIAL: TELÉFONO, TELEVISOR,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CÓDIGO: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CONJUNTO DE SIGNOS, CON UNAS REGL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SzPct val="15876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CONOCIDAS  POR EMISOR Y RECEPT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CONTEXTO O SITUACIÓN: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IRCUNSTANCI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SzPct val="15876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ESPACIO, TIEMPO, CULTURA, …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2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20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200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2000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2000"/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2000"/>
                                        <p:tgtEl>
                                          <p:spTgt spid="3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2000"/>
                                        <p:tgtEl>
                                          <p:spTgt spid="3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2000"/>
                                        <p:tgtEl>
                                          <p:spTgt spid="3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2000"/>
                                        <p:tgtEl>
                                          <p:spTgt spid="3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2000"/>
                                        <p:tgtEl>
                                          <p:spTgt spid="30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2000"/>
                                        <p:tgtEl>
                                          <p:spTgt spid="30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0T18:51:45Z</dcterms:created>
  <dc:creator>AUDIOLEASK</dc:creator>
  <dc:description/>
  <dc:language>en-US</dc:language>
  <cp:lastModifiedBy>AUDIOLEASK</cp:lastModifiedBy>
  <dcterms:modified xsi:type="dcterms:W3CDTF">2013-11-10T19:17:56Z</dcterms:modified>
  <cp:revision>2</cp:revision>
  <dc:subject/>
  <dc:title>Diapositiva 1</dc:title>
</cp:coreProperties>
</file>